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9.png" ContentType="image/pn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902825" cy="6858000"/>
  <p:notesSz cx="7304088" cy="9590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304400" cy="959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940840" y="9131400"/>
            <a:ext cx="142272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Galliard"/>
              </a:rPr>
              <a:t>Page </a:t>
            </a:r>
            <a:fld id="{A39F7655-CE0C-45EE-A046-E53158680E6F}" type="slidenum">
              <a:rPr b="0" lang="en-US" sz="1300" spc="-1" strike="noStrike">
                <a:solidFill>
                  <a:srgbClr val="000000"/>
                </a:solidFill>
                <a:latin typeface="Galliard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228680" y="836640"/>
            <a:ext cx="4843440" cy="3354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imes New Roman"/>
              </a:rPr>
              <a:t>Click to move the slide</a:t>
            </a: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72720" y="4555800"/>
            <a:ext cx="5356440" cy="40402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lliard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Galli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057320" y="719280"/>
            <a:ext cx="5192640" cy="359712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72720" y="4552920"/>
            <a:ext cx="5356440" cy="4316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lliard"/>
              </a:rPr>
              <a:t>This may be too much detail for you? Plaatjes laten problemen zien met het bereiken van hoge transfer rate op lange lossy verbindingen (especially in China)</a:t>
            </a:r>
            <a:endParaRPr b="0" lang="en-US" sz="1200" spc="-1" strike="noStrike">
              <a:solidFill>
                <a:srgbClr val="000000"/>
              </a:solidFill>
              <a:latin typeface="Galliard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057320" y="719280"/>
            <a:ext cx="5192640" cy="359712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72720" y="4552920"/>
            <a:ext cx="5356440" cy="4316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lliard"/>
              </a:rPr>
              <a:t>This may be too much detail for you? Plaatjes laten problemen zien met het bereiken van hoge transfer rate op lange lossy verbindingen (especially in China)</a:t>
            </a:r>
            <a:endParaRPr b="0" lang="en-US" sz="1200" spc="-1" strike="noStrike">
              <a:solidFill>
                <a:srgbClr val="000000"/>
              </a:solidFill>
              <a:latin typeface="Galliard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057320" y="719280"/>
            <a:ext cx="5192640" cy="359712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72720" y="4552920"/>
            <a:ext cx="5356440" cy="4316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lliard"/>
              </a:rPr>
              <a:t>This may be too much detail for you? Plaatjes laten problemen zien met het bereiken van hoge transfer rate op lange lossy verbindingen (especially in China)</a:t>
            </a:r>
            <a:endParaRPr b="0" lang="en-US" sz="1200" spc="-1" strike="noStrike">
              <a:solidFill>
                <a:srgbClr val="000000"/>
              </a:solidFill>
              <a:latin typeface="Galliard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057320" y="719280"/>
            <a:ext cx="5192640" cy="359712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72720" y="4552920"/>
            <a:ext cx="5356440" cy="4316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lliard"/>
              </a:rPr>
              <a:t>This may be too much detail for you? Plaatjes laten problemen zien met het bereiken van hoge transfer rate op lange lossy verbindingen (especially in China)</a:t>
            </a:r>
            <a:endParaRPr b="0" lang="en-US" sz="1200" spc="-1" strike="noStrike">
              <a:solidFill>
                <a:srgbClr val="000000"/>
              </a:solidFill>
              <a:latin typeface="Galliard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057320" y="719280"/>
            <a:ext cx="5192640" cy="359712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72720" y="4552920"/>
            <a:ext cx="5356440" cy="4316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lliard"/>
              </a:rPr>
              <a:t>This may be too much detail for you? Plaatjes laten problemen zien met het bereiken van hoge transfer rate op lange lossy verbindingen (especially in China)</a:t>
            </a:r>
            <a:endParaRPr b="0" lang="en-US" sz="1200" spc="-1" strike="noStrike">
              <a:solidFill>
                <a:srgbClr val="000000"/>
              </a:solidFill>
              <a:latin typeface="Galliard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057320" y="719280"/>
            <a:ext cx="5192640" cy="359712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72720" y="4552920"/>
            <a:ext cx="5356440" cy="4316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lliard"/>
              </a:rPr>
              <a:t>This may be too much detail for you? Plaatjes laten problemen zien met het bereiken van hoge transfer rate op lange lossy verbindingen (especially in China)</a:t>
            </a:r>
            <a:endParaRPr b="0" lang="en-US" sz="1200" spc="-1" strike="noStrike">
              <a:solidFill>
                <a:srgbClr val="000000"/>
              </a:solidFill>
              <a:latin typeface="Galliard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057320" y="719280"/>
            <a:ext cx="5192640" cy="359712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72720" y="4552920"/>
            <a:ext cx="5356440" cy="4316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lliard"/>
              </a:rPr>
              <a:t>This may be too much detail for you? Plaatjes laten problemen zien met het bereiken van hoge transfer rate op lange lossy verbindingen (especially in China)</a:t>
            </a:r>
            <a:endParaRPr b="0" lang="en-US" sz="1200" spc="-1" strike="noStrike">
              <a:solidFill>
                <a:srgbClr val="000000"/>
              </a:solidFill>
              <a:latin typeface="Galliar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69360" y="-63000"/>
            <a:ext cx="7440840" cy="62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03240" y="2276640"/>
            <a:ext cx="7756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03240" y="4426200"/>
            <a:ext cx="7756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69360" y="-63000"/>
            <a:ext cx="7440840" cy="62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03240" y="2276640"/>
            <a:ext cx="3785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8000" y="2276640"/>
            <a:ext cx="3785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03240" y="4426200"/>
            <a:ext cx="3785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8000" y="4426200"/>
            <a:ext cx="3785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69360" y="-63000"/>
            <a:ext cx="7440840" cy="62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03240" y="2276640"/>
            <a:ext cx="2497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25840" y="2276640"/>
            <a:ext cx="2497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48440" y="2276640"/>
            <a:ext cx="2497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03240" y="4426200"/>
            <a:ext cx="2497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25840" y="4426200"/>
            <a:ext cx="2497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48440" y="4426200"/>
            <a:ext cx="2497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69360" y="-63000"/>
            <a:ext cx="7440840" cy="62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903240" y="2276640"/>
            <a:ext cx="77565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69360" y="-63000"/>
            <a:ext cx="7440840" cy="62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903240" y="2276640"/>
            <a:ext cx="77565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69360" y="-63000"/>
            <a:ext cx="7440840" cy="62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03240" y="2276640"/>
            <a:ext cx="3785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78000" y="2276640"/>
            <a:ext cx="3785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69360" y="-63000"/>
            <a:ext cx="7440840" cy="62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69360" y="-360"/>
            <a:ext cx="744084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69360" y="-63000"/>
            <a:ext cx="7440840" cy="62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03240" y="2276640"/>
            <a:ext cx="3785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78000" y="2276640"/>
            <a:ext cx="3785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903240" y="4426200"/>
            <a:ext cx="3785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69360" y="-63000"/>
            <a:ext cx="7440840" cy="62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03240" y="2276640"/>
            <a:ext cx="77565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69360" y="-63000"/>
            <a:ext cx="7440840" cy="62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03240" y="2276640"/>
            <a:ext cx="3785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78000" y="2276640"/>
            <a:ext cx="3785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878000" y="4426200"/>
            <a:ext cx="3785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360" y="-63000"/>
            <a:ext cx="7440840" cy="62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03240" y="2276640"/>
            <a:ext cx="3785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78000" y="2276640"/>
            <a:ext cx="3785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03240" y="4426200"/>
            <a:ext cx="7756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69360" y="-63000"/>
            <a:ext cx="7440840" cy="62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03240" y="2276640"/>
            <a:ext cx="7756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903240" y="4426200"/>
            <a:ext cx="7756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69360" y="-63000"/>
            <a:ext cx="7440840" cy="62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03240" y="2276640"/>
            <a:ext cx="3785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78000" y="2276640"/>
            <a:ext cx="3785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03240" y="4426200"/>
            <a:ext cx="3785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878000" y="4426200"/>
            <a:ext cx="3785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69360" y="-63000"/>
            <a:ext cx="7440840" cy="62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03240" y="2276640"/>
            <a:ext cx="2497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525840" y="2276640"/>
            <a:ext cx="2497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48440" y="2276640"/>
            <a:ext cx="2497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903240" y="4426200"/>
            <a:ext cx="2497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525840" y="4426200"/>
            <a:ext cx="2497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48440" y="4426200"/>
            <a:ext cx="2497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69360" y="-63000"/>
            <a:ext cx="7440840" cy="62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03240" y="2276640"/>
            <a:ext cx="77565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69360" y="-63000"/>
            <a:ext cx="7440840" cy="62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03240" y="2276640"/>
            <a:ext cx="3785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8000" y="2276640"/>
            <a:ext cx="3785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69360" y="-63000"/>
            <a:ext cx="7440840" cy="62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69360" y="-360"/>
            <a:ext cx="744084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69360" y="-63000"/>
            <a:ext cx="7440840" cy="62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03240" y="2276640"/>
            <a:ext cx="3785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8000" y="2276640"/>
            <a:ext cx="3785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03240" y="4426200"/>
            <a:ext cx="3785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69360" y="-63000"/>
            <a:ext cx="7440840" cy="62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03240" y="2276640"/>
            <a:ext cx="3785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8000" y="2276640"/>
            <a:ext cx="3785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8000" y="4426200"/>
            <a:ext cx="3785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69360" y="-63000"/>
            <a:ext cx="7440840" cy="62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03240" y="2276640"/>
            <a:ext cx="3785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8000" y="2276640"/>
            <a:ext cx="3785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03240" y="4426200"/>
            <a:ext cx="7756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76360" y="838080"/>
            <a:ext cx="841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24040" y="2286000"/>
            <a:ext cx="775800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903240" y="2276640"/>
            <a:ext cx="77565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369360" y="-360"/>
            <a:ext cx="7440840" cy="50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04840" y="509760"/>
            <a:ext cx="9464760" cy="6108480"/>
          </a:xfrm>
          <a:prstGeom prst="rect">
            <a:avLst/>
          </a:prstGeom>
          <a:noFill/>
          <a:ln w="12600">
            <a:solidFill>
              <a:srgbClr val="004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6643800"/>
            <a:ext cx="287640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4080"/>
                </a:solidFill>
                <a:latin typeface="Times New Roman"/>
                <a:ea typeface="Times New Roman"/>
              </a:rPr>
              <a:t>EVN Board meeting, Göteborg, May  200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8346960" y="0"/>
            <a:ext cx="1555920" cy="498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76360" y="838080"/>
            <a:ext cx="841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24040" y="2286000"/>
            <a:ext cx="775800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1760" y="22856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380880"/>
            <a:ext cx="9063000" cy="6091200"/>
          </a:xfrm>
          <a:prstGeom prst="rect">
            <a:avLst/>
          </a:prstGeom>
          <a:noFill/>
          <a:ln w="1260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4800" y="6362640"/>
            <a:ext cx="288288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33cc"/>
                </a:solidFill>
                <a:latin typeface="Microsoft Sans Serif"/>
                <a:ea typeface="Times New Roman"/>
              </a:rPr>
              <a:t>EVN Symposium 2004, A. Szomoru, JIV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8128080" y="314280"/>
            <a:ext cx="1368360" cy="735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 rot="5400000">
            <a:off x="2248920" y="-753840"/>
            <a:ext cx="6091200" cy="87008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871560" y="5365800"/>
            <a:ext cx="773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pad Szomoru, J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401840" y="27000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820880" y="1784520"/>
            <a:ext cx="6116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00"/>
                </a:solidFill>
                <a:latin typeface="Times New Roman"/>
              </a:rPr>
              <a:t>e-EVN upda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994120" y="296532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41360" y="-360"/>
            <a:ext cx="8912160" cy="56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00000"/>
                </a:solidFill>
                <a:latin typeface="Times New Roman"/>
              </a:rPr>
              <a:t>Topics</a:t>
            </a: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756320" y="3321000"/>
            <a:ext cx="242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910560" y="5103720"/>
            <a:ext cx="242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23640" y="917280"/>
            <a:ext cx="8584920" cy="5676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254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72880" y="968400"/>
            <a:ext cx="8585280" cy="56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132120" tIns="50760" bIns="50760" anchor="t">
            <a:normAutofit/>
          </a:bodyPr>
          <a:p>
            <a:pPr marL="3254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recent fir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chnical develop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w sci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et to c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41360" y="-360"/>
            <a:ext cx="8912160" cy="56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00000"/>
                </a:solidFill>
                <a:latin typeface="Times New Roman"/>
              </a:rPr>
              <a:t>Firsts in this period</a:t>
            </a: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756320" y="3321000"/>
            <a:ext cx="242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910560" y="5103720"/>
            <a:ext cx="242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23640" y="917280"/>
            <a:ext cx="8584920" cy="5676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254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72880" y="968400"/>
            <a:ext cx="8585280" cy="56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132120" tIns="50760" bIns="50760" anchor="t">
            <a:normAutofit/>
          </a:bodyPr>
          <a:p>
            <a:pPr marL="3254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-fringes to Yebes, Urumqi, Kashima, Westford, Hob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24 Mbps observations with Ef, Wb, Tr, On, J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-fringes on mark5B (at correlato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3-hour (near) continuous observ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rlincast, inclusion of multiple Merlin telescopes through multic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41360" y="-360"/>
            <a:ext cx="8912160" cy="56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00000"/>
                </a:solidFill>
                <a:latin typeface="Times New Roman"/>
              </a:rPr>
              <a:t>Beyond 1 Gbps</a:t>
            </a: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756320" y="3321000"/>
            <a:ext cx="242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910560" y="5103720"/>
            <a:ext cx="242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23640" y="917280"/>
            <a:ext cx="8584920" cy="5676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254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b, Ef, On, T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6512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080"/>
                </a:solidFill>
                <a:latin typeface="Times New Roman"/>
              </a:rPr>
              <a:t>via 10G, bonding</a:t>
            </a:r>
            <a:endParaRPr b="0" lang="en-US" sz="2000" spc="-1" strike="noStrike">
              <a:solidFill>
                <a:srgbClr val="004080"/>
              </a:solidFill>
              <a:latin typeface="Times New Roman"/>
            </a:endParaRPr>
          </a:p>
          <a:p>
            <a:pPr lvl="1" marL="46512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080"/>
                </a:solidFill>
                <a:latin typeface="Times New Roman"/>
              </a:rPr>
              <a:t>Synergy w. eLOFAR</a:t>
            </a:r>
            <a:endParaRPr b="0" lang="en-US" sz="2000" spc="-1" strike="noStrike">
              <a:solidFill>
                <a:srgbClr val="004080"/>
              </a:solidFill>
              <a:latin typeface="Times New Roman"/>
            </a:endParaRPr>
          </a:p>
          <a:p>
            <a:pPr marL="3254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now Jb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6512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080"/>
                </a:solidFill>
                <a:latin typeface="Times New Roman"/>
              </a:rPr>
              <a:t>bonding on 2 international lightpaths</a:t>
            </a:r>
            <a:endParaRPr b="0" lang="en-US" sz="2000" spc="-1" strike="noStrike">
              <a:solidFill>
                <a:srgbClr val="004080"/>
              </a:solidFill>
              <a:latin typeface="Times New Roman"/>
            </a:endParaRPr>
          </a:p>
          <a:p>
            <a:pPr lvl="1" marL="46512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080"/>
                </a:solidFill>
                <a:latin typeface="Times New Roman"/>
              </a:rPr>
              <a:t>with Cm and Kn added in elliptical robin mode</a:t>
            </a:r>
            <a:endParaRPr b="0" lang="en-US" sz="2000" spc="-1" strike="noStrike">
              <a:solidFill>
                <a:srgbClr val="00408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429000" y="885960"/>
            <a:ext cx="5353200" cy="21603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3390840" y="3209760"/>
            <a:ext cx="5335560" cy="2143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41360" y="-360"/>
            <a:ext cx="8912160" cy="56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00000"/>
                </a:solidFill>
                <a:latin typeface="Times New Roman"/>
              </a:rPr>
              <a:t>Real-time monitoring, adaptive scheduling</a:t>
            </a: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756320" y="3321000"/>
            <a:ext cx="242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910560" y="5103720"/>
            <a:ext cx="242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560" y="719280"/>
            <a:ext cx="8584920" cy="588456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 fontScale="98000"/>
          </a:bodyPr>
          <a:p>
            <a:pPr marL="318600" indent="-280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l-time monitoring of station stat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57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08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4080"/>
                </a:solidFill>
                <a:latin typeface="Times New Roman"/>
              </a:rPr>
              <a:t>Fast diagnostics, essential for “non-expert” e-operations</a:t>
            </a:r>
            <a:endParaRPr b="0" lang="en-US" sz="2000" spc="-1" strike="noStrike">
              <a:solidFill>
                <a:srgbClr val="004080"/>
              </a:solidFill>
              <a:latin typeface="Times New Roman"/>
            </a:endParaRPr>
          </a:p>
          <a:p>
            <a:pPr lvl="1" marL="4557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08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4080"/>
                </a:solidFill>
                <a:latin typeface="Times New Roman"/>
              </a:rPr>
              <a:t>Readily expandable to display any logged information</a:t>
            </a:r>
            <a:endParaRPr b="0" lang="en-US" sz="2000" spc="-1" strike="noStrike">
              <a:solidFill>
                <a:srgbClr val="004080"/>
              </a:solidFill>
              <a:latin typeface="Times New Roman"/>
            </a:endParaRPr>
          </a:p>
          <a:p>
            <a:pPr lvl="1" marL="4557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080"/>
              </a:solidFill>
              <a:latin typeface="Times New Roman"/>
            </a:endParaRPr>
          </a:p>
          <a:p>
            <a:pPr marL="3186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6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6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6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6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6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6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6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600" indent="-280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aptive scheduling: has been demonstrated to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57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080"/>
                </a:solidFill>
                <a:latin typeface="Times New Roman"/>
              </a:rPr>
              <a:t>But technique remains in limbo</a:t>
            </a:r>
            <a:endParaRPr b="0" lang="en-US" sz="2000" spc="-1" strike="noStrike">
              <a:solidFill>
                <a:srgbClr val="00408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238400" y="2001960"/>
            <a:ext cx="7467480" cy="3465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41360" y="-360"/>
            <a:ext cx="8912160" cy="56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00000"/>
                </a:solidFill>
                <a:latin typeface="Times New Roman"/>
              </a:rPr>
              <a:t>Mark5B and e-VLBI</a:t>
            </a: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56320" y="3321000"/>
            <a:ext cx="242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910560" y="5103720"/>
            <a:ext cx="242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23640" y="917280"/>
            <a:ext cx="8584920" cy="5676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254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72880" y="968400"/>
            <a:ext cx="8585280" cy="56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132120" tIns="50760" bIns="50760" anchor="t">
            <a:normAutofit/>
          </a:bodyPr>
          <a:p>
            <a:pPr marL="3254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ly developed jive5A control code used for Mk5A e-VLBI operations and for Mk5B e-transfers (on the Dimino sid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-data played back on A+ units at correlator (both e- and non-e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ystack-developed Domino code adapted for use with EVN correl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651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08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4080"/>
                </a:solidFill>
                <a:latin typeface="Times New Roman"/>
              </a:rPr>
              <a:t>Buffering needed in Mk5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651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08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4080"/>
                </a:solidFill>
                <a:latin typeface="Times New Roman"/>
              </a:rPr>
              <a:t>First fringes between A and B (with playback on B) on May 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651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08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4080"/>
                </a:solidFill>
                <a:latin typeface="Times New Roman"/>
              </a:rPr>
              <a:t>Mk5B I/O board unfortunately expects perfect data, completely stops in case of missing/corrupted head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651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08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4080"/>
                </a:solidFill>
                <a:latin typeface="Times New Roman"/>
              </a:rPr>
              <a:t>Workaround in place, being tes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41360" y="-360"/>
            <a:ext cx="8912160" cy="56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00000"/>
                </a:solidFill>
                <a:latin typeface="Times New Roman"/>
              </a:rPr>
              <a:t>Latest e-VLBI science</a:t>
            </a: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756320" y="3321000"/>
            <a:ext cx="242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910560" y="5103720"/>
            <a:ext cx="242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23640" y="917280"/>
            <a:ext cx="8584920" cy="5676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254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72880" y="968400"/>
            <a:ext cx="8585280" cy="56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131760" tIns="50760" bIns="50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25520" y="1120680"/>
            <a:ext cx="8585280" cy="56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131760" tIns="50760" bIns="50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95520" y="1708200"/>
            <a:ext cx="184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304920" y="1523880"/>
            <a:ext cx="2763720" cy="48006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3352680" y="838080"/>
            <a:ext cx="2071800" cy="49532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5875200" y="2324160"/>
            <a:ext cx="3500640" cy="350532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7610400" y="3429000"/>
            <a:ext cx="143820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0000"/>
                </a:solidFill>
                <a:latin typeface="Arial"/>
              </a:rPr>
              <a:t>AGN activ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33360" y="866880"/>
            <a:ext cx="3124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225360" indent="-2253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Compact SNRs in Arp2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PI: Miguel Angel Perez-Tor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640680" y="5780160"/>
            <a:ext cx="187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SS433 in outburst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PI: V. Tudo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837760" y="944640"/>
            <a:ext cx="346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WSRT/e-EVN resolves the myst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of Hanny’s Voorwer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Jozsa, Rampadarath, Garrett et a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41360" y="-360"/>
            <a:ext cx="8912160" cy="56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00000"/>
                </a:solidFill>
                <a:latin typeface="Times New Roman"/>
              </a:rPr>
              <a:t>e-VLBI at high redshift</a:t>
            </a: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756320" y="3321000"/>
            <a:ext cx="242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910560" y="5103720"/>
            <a:ext cx="242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23640" y="917280"/>
            <a:ext cx="8584920" cy="5676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254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72880" y="968400"/>
            <a:ext cx="8585280" cy="56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131760" tIns="50760" bIns="50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25520" y="1120680"/>
            <a:ext cx="8585280" cy="56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131760" tIns="50760" bIns="50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495520" y="1708200"/>
            <a:ext cx="184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5372280" y="2430360"/>
            <a:ext cx="2927160" cy="275292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768320" y="2428920"/>
            <a:ext cx="2880000" cy="273528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1403280" y="5692680"/>
            <a:ext cx="744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0000"/>
                </a:solidFill>
                <a:latin typeface="Arial"/>
              </a:rPr>
              <a:t>Images from pypelined data: the e-EVN is a powerful, fast-response detection instru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630520" y="4206960"/>
            <a:ext cx="1447920" cy="30456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imes New Roman"/>
              </a:rPr>
              <a:t>Z = 4.6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227640" y="4222800"/>
            <a:ext cx="1447920" cy="3049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imes New Roman"/>
              </a:rPr>
              <a:t>Z = 5.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371680" y="92232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92120" y="852480"/>
            <a:ext cx="858528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132120" tIns="50760" bIns="50760" anchor="t">
            <a:normAutofit/>
          </a:bodyPr>
          <a:p>
            <a:pPr marL="3254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e-VLBI to pre-select high-redshift sour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w hours sufficient for det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0" y="719280"/>
            <a:ext cx="9902880" cy="519408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69360" y="-360"/>
            <a:ext cx="7440840" cy="50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00000"/>
                </a:solidFill>
                <a:latin typeface="Times New Roman"/>
              </a:rPr>
              <a:t>(near) future</a:t>
            </a: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20720" y="1603440"/>
            <a:ext cx="8275680" cy="44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5360" bIns="4536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128271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65000" y="998640"/>
            <a:ext cx="891252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First JVN-EVN observations at 6.7 GHz, hopefully followed by an e-demo with Yamaguch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More demand for EVN-Kashima baselin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First test observations with KVN planned, telescopes will be connected at 10 Gbps this f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4 Gbps tests plann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4T08:51:29Z</dcterms:created>
  <dc:creator>Arpad Szomoru</dc:creator>
  <dc:description/>
  <dc:language>en-US</dc:language>
  <cp:lastModifiedBy>Arpad Szomoru</cp:lastModifiedBy>
  <cp:lastPrinted>2001-03-09T11:05:18Z</cp:lastPrinted>
  <dcterms:modified xsi:type="dcterms:W3CDTF">2009-05-26T08:10:33Z</dcterms:modified>
  <cp:revision>38</cp:revision>
  <dc:subject/>
  <dc:title>Data rate improvements</dc:title>
</cp:coreProperties>
</file>